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FC4-BA78-44F9-B53E-20EA427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D1B-4D5F-4649-A5AD-726B2C4D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58C-CE54-45ED-B43A-8B1BC782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25D-040D-4E00-BBF6-2A107044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93A-3EF5-4F2D-9830-9A07102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C40-CCE2-4564-B8A8-7C76CAA6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A62-ADAC-4898-8E26-7E7186C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AAE-998E-4168-8020-9E6618A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370-6CE5-4580-9C2F-2C837FC8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FFB-9C99-4D87-AD53-FA78A89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4FF-FF98-4B37-BF29-9921B22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64A-17AD-4A17-B3B7-018B08C2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BEB-FE71-4DDB-9713-06766333F2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hider.ilri.org/handle/10568/2296/" TargetMode="External"/><Relationship Id="rId2" Type="http://schemas.openxmlformats.org/officeDocument/2006/relationships/hyperlink" Target="http://nilebdc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BDC plan 2012-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veloping Basin Level Learning Initiatives/Documenta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so f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working papers coming out (se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lling team (N projects talk to each o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platform well underway (3 meeting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level IPs with local fund &amp; moving fwd with meetings an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ly update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interaction in peer assists and bey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ation of IP’s of use to all in CPW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interaction on the NBDC Yam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challeng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N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ilahun leaving ILRI/IWMI/CPWF, leaves many questions and interaction vo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’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ransition in local level IP leader will take so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s 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nly international support, too little on-the-ground local &amp; networked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ar of losing more staf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ards end of project to achieve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eti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ime/focus) with other large programs sta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opportunities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and documentation in NBD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work very useful to document – broader documentation of IP’s happening @ ILRI – many questions on links local-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esting work on exit strategy and wider engagement through national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logy work tying in with other IWMI/WLE and Africa RISING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ppy strategies and scenarios to identify best RWM strategies innovative and proving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od communication work so far – to document for other proj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on gender and equity – which informs WLE and on trade-offs (broader climate change and NRM age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questions about this initi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we pool resources most effectively to ensure we develop useful cross-cutting publications (across BDCs) without duplicating eff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12:39:32Z</dcterms:created>
  <dc:creator>eleborgne</dc:creator>
  <dc:description/>
  <dc:language>en-US</dc:language>
  <cp:lastModifiedBy>eleborgne</cp:lastModifiedBy>
  <dcterms:modified xsi:type="dcterms:W3CDTF">2012-09-03T07:48:50Z</dcterms:modified>
  <cp:revision>6</cp:revision>
  <dc:subject/>
  <dc:title>PowerPoint Presentation</dc:title>
</cp:coreProperties>
</file>